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151-D950-42D3-9494-1DCCD0CF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268-3D77-4216-92A0-05922234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E53-A09A-4FA9-A0F9-917A6888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883-FCB9-4930-8551-C6D80327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1D6B-7BC5-47C1-9B1A-419548F3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48A9-CFDA-445B-8FA7-C241DA67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EEE4-43C4-4C4D-B1E4-55B7F991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7C0C-A692-4A8A-93E3-B756A827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1BF6-6451-4D02-BFF5-7AC47F9D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B06E-CB0B-4C47-87B8-6EFD5FEF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A03A-7D45-431D-997F-0306F0FE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42E-E4B9-45DB-A9A9-94EE8038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9935-E00B-4B8E-9853-FACC99E3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A112-101B-421C-A2F0-AB85EF6A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CDE4-1695-4EBE-97E3-4DD62077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BA0D-E0BC-4E4E-9959-793C7827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9CC6-2D53-41EB-B415-F716F9BC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1BEF9-3564-453B-B8D5-BF3392C4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4FB08-6F43-4CBD-9B15-56CF70EE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237CE-3507-40E2-8946-5A205565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50E5F-A347-48A9-82E1-F518CDCC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076F-F77A-4A7D-9FD1-ABD073CF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21B-C70F-48CC-8FA0-F433B244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910A-B248-4496-BE35-217765F0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F198-783D-4C89-B057-B37E7286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73E0-CD40-4533-83AE-0E70A090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6B40-5F5A-4E18-A505-2DE91E0E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B8E07-2BC0-4EA9-9144-8A7741E4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92F76-420A-4F45-9F2B-D01B7E60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AB106-EE52-4B0F-8853-BCD14BF6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F2CAC-93C4-4715-8581-53AF33C2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6EB9-B554-4840-85E5-B8542D14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8576-C502-4849-BCA7-7449541A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4C3-0D8E-4B1C-B687-4DFE8E16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DAD7-ACF9-4A0C-B42C-A3725AA9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01BD2-C41C-45C6-AC95-9AF200C2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6185-6052-4300-B683-DE23DE25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42254-186A-45CC-84EF-4F53CF6A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2E113-7FFF-494A-ADD9-203E76FC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4F3D8-87A8-44D1-BF53-6491D9F8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C370E-8636-4990-9680-345D2416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928E-C7F3-4BFD-B3F4-1D66AB36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56AE5-EC3F-4694-8B5F-3BD30200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BD4-9901-40D5-B413-90911C38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0B9-A691-49DA-938E-00BE3FDE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3CD-0A65-4612-BB72-93D165E9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59D-4E61-4EF2-B27C-C533A16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BCB-BDE7-4BE1-A452-2C3C5B4F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3B19-F957-4D24-8549-C298A74D7CF6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76CA-AA42-478B-AFA1-812EB67224AB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062E-653E-4F60-B945-B84C386B08FA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35A6-6A04-4D8C-871F-707C17E51366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C:\Documents and Settings\Educator\Desktop\DSC07784.JPG"/>
          <p:cNvPicPr/>
          <p:nvPr/>
        </p:nvPicPr>
        <p:blipFill>
          <a:blip r:embed="rId1"/>
          <a:stretch/>
        </p:blipFill>
        <p:spPr>
          <a:xfrm>
            <a:off x="1785960" y="2786040"/>
            <a:ext cx="5689440" cy="378468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2" descr="Flower"/>
          <p:cNvPicPr/>
          <p:nvPr/>
        </p:nvPicPr>
        <p:blipFill>
          <a:blip r:embed="rId3"/>
          <a:stretch/>
        </p:blipFill>
        <p:spPr>
          <a:xfrm>
            <a:off x="214200" y="142920"/>
            <a:ext cx="882720" cy="838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1285920" y="14292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elebrating Achievement Celebrating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ctively involved life long learners who are innovative, confident, and resi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rcRect l="16668" t="10791" r="14105" b="0"/>
          <a:stretch/>
        </p:blipFill>
        <p:spPr>
          <a:xfrm>
            <a:off x="2428920" y="642960"/>
            <a:ext cx="38577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0"/>
          <p:cNvSpPr/>
          <p:nvPr/>
        </p:nvSpPr>
        <p:spPr>
          <a:xfrm>
            <a:off x="357120" y="928800"/>
            <a:ext cx="8143920" cy="10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0" y="2714760"/>
            <a:ext cx="210492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Foremost Teaching Approach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Kath Murdoch Inquiry process integrating multiple intelligenc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hinking (K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haring LIs &amp; co-developing success criteria with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caffolding learning from what the student can do or knows to just beyond (ZP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Modelling learning in multiple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Utilising thinking strategies &amp;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s-based, personalised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214720" y="3071880"/>
            <a:ext cx="180972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Future Focus T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ab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ustain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Exploring the long-term impact of social, cultural, scientific, technological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economic, or political practices on society and the environ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NZ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448400" y="2071800"/>
            <a:ext cx="169560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Key Competenc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Managing Self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Goal setting &amp; monitoring; reflecting; self/peer assessment; independent working; time-management; organisational skills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Participating &amp; Contributing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Group working roles &amp; skills; identity awareness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local/national/global; connecting &amp; sharing with others; netiquette; self-advocacy; social consci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786280" y="2714760"/>
            <a:ext cx="157176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Valu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xcel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Aiming 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Perseve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Being resil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Facing challen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Respectfu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Empathet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Toler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Hon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Relating to Others (K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067280" y="3095640"/>
            <a:ext cx="159048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grated Curricul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about and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ocial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 Reo &amp; Tikan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038400" y="5657760"/>
            <a:ext cx="3819600" cy="11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trategy &amp; Skill Develop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earning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iteracy; Mathematics; ICT; Info-literacy; Self-Regulated Learning; PE &amp; Sport;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Using symbols, language &amp; texts (KC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14680" y="2071800"/>
            <a:ext cx="5057640" cy="55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9 Building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Flower"/>
          <p:cNvPicPr/>
          <p:nvPr/>
        </p:nvPicPr>
        <p:blipFill>
          <a:blip r:embed="rId1"/>
          <a:stretch/>
        </p:blipFill>
        <p:spPr>
          <a:xfrm>
            <a:off x="285840" y="142920"/>
            <a:ext cx="882720" cy="8380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"/>
          <p:cNvSpPr/>
          <p:nvPr/>
        </p:nvSpPr>
        <p:spPr>
          <a:xfrm>
            <a:off x="1357200" y="1000080"/>
            <a:ext cx="635796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Celebrating Achievement Celebrating Divers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Actively involved life long learners who are innovative, confident, and resili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Rectangle 12" descr=""/>
          <p:cNvPicPr/>
          <p:nvPr/>
        </p:nvPicPr>
        <p:blipFill>
          <a:blip r:embed="rId2"/>
          <a:stretch/>
        </p:blipFill>
        <p:spPr>
          <a:xfrm>
            <a:off x="781200" y="-79200"/>
            <a:ext cx="808164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3071880" y="1428840"/>
            <a:ext cx="2341440" cy="15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Ariki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Principal  &amp; Teacher Apprai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Pilot Projec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Inquiring about teaching &amp; learning through Quality Learning Cir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2992320" y="3254400"/>
            <a:ext cx="245916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Building capacity 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2000160" y="4429080"/>
            <a:ext cx="962280" cy="8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usic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pecialist Tea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071880" y="4572000"/>
            <a:ext cx="1104840" cy="8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-wi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4214880" y="4357800"/>
            <a:ext cx="135396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grating Web 2.0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643720" y="4143240"/>
            <a:ext cx="97452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nquiry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7215120" y="2928960"/>
            <a:ext cx="1413000" cy="9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itera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-w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pelling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85840" y="3357720"/>
            <a:ext cx="10224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elf-Regulated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13"/>
          <p:cNvCxnSpPr/>
          <p:nvPr/>
        </p:nvCxnSpPr>
        <p:spPr>
          <a:xfrm flipH="1">
            <a:off x="1928520" y="3609000"/>
            <a:ext cx="106416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2"/>
          <p:cNvCxnSpPr/>
          <p:nvPr/>
        </p:nvCxnSpPr>
        <p:spPr>
          <a:xfrm flipH="1">
            <a:off x="2571480" y="3610080"/>
            <a:ext cx="97848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AutoShape 11"/>
          <p:cNvCxnSpPr/>
          <p:nvPr/>
        </p:nvCxnSpPr>
        <p:spPr>
          <a:xfrm flipH="1">
            <a:off x="3499560" y="3610080"/>
            <a:ext cx="4676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AutoShape 10"/>
          <p:cNvCxnSpPr/>
          <p:nvPr/>
        </p:nvCxnSpPr>
        <p:spPr>
          <a:xfrm>
            <a:off x="4273920" y="3610080"/>
            <a:ext cx="29772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9"/>
          <p:cNvCxnSpPr/>
          <p:nvPr/>
        </p:nvCxnSpPr>
        <p:spPr>
          <a:xfrm>
            <a:off x="4832280" y="3609720"/>
            <a:ext cx="88344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8"/>
          <p:cNvCxnSpPr>
            <a:stCxn id="214" idx="3"/>
          </p:cNvCxnSpPr>
          <p:nvPr/>
        </p:nvCxnSpPr>
        <p:spPr>
          <a:xfrm flipV="1">
            <a:off x="5451120" y="3285360"/>
            <a:ext cx="1670760" cy="1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7"/>
          <p:cNvCxnSpPr/>
          <p:nvPr/>
        </p:nvCxnSpPr>
        <p:spPr>
          <a:xfrm flipH="1">
            <a:off x="4214520" y="300024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Text Box 6"/>
          <p:cNvSpPr/>
          <p:nvPr/>
        </p:nvSpPr>
        <p:spPr>
          <a:xfrm>
            <a:off x="6715080" y="4000680"/>
            <a:ext cx="855720" cy="8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e Reo &amp; Tikan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AutoShape 5"/>
          <p:cNvCxnSpPr/>
          <p:nvPr/>
        </p:nvCxnSpPr>
        <p:spPr>
          <a:xfrm>
            <a:off x="5343480" y="3609720"/>
            <a:ext cx="130104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Text Box 4"/>
          <p:cNvSpPr/>
          <p:nvPr/>
        </p:nvSpPr>
        <p:spPr>
          <a:xfrm>
            <a:off x="714240" y="4214880"/>
            <a:ext cx="122256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2643120" y="857160"/>
            <a:ext cx="33717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Building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AutoShape 1"/>
          <p:cNvCxnSpPr/>
          <p:nvPr/>
        </p:nvCxnSpPr>
        <p:spPr>
          <a:xfrm>
            <a:off x="4214520" y="1213920"/>
            <a:ext cx="1080" cy="21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AutoShape 8"/>
          <p:cNvCxnSpPr>
            <a:stCxn id="214" idx="1"/>
          </p:cNvCxnSpPr>
          <p:nvPr/>
        </p:nvCxnSpPr>
        <p:spPr>
          <a:xfrm flipH="1">
            <a:off x="1499400" y="3425760"/>
            <a:ext cx="149292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4" name="Rectangle 44" descr=""/>
          <p:cNvPicPr/>
          <p:nvPr/>
        </p:nvPicPr>
        <p:blipFill>
          <a:blip r:embed="rId1"/>
          <a:stretch/>
        </p:blipFill>
        <p:spPr>
          <a:xfrm>
            <a:off x="566640" y="274680"/>
            <a:ext cx="8083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44"/>
          <p:cNvGrpSpPr/>
          <p:nvPr/>
        </p:nvGrpSpPr>
        <p:grpSpPr>
          <a:xfrm>
            <a:off x="714240" y="790560"/>
            <a:ext cx="6805800" cy="4788000"/>
            <a:chOff x="714240" y="790560"/>
            <a:chExt cx="6805800" cy="4788000"/>
          </a:xfrm>
        </p:grpSpPr>
        <p:sp>
          <p:nvSpPr>
            <p:cNvPr id="236" name="Text Box 46"/>
            <p:cNvSpPr/>
            <p:nvPr/>
          </p:nvSpPr>
          <p:spPr>
            <a:xfrm>
              <a:off x="785520" y="1500480"/>
              <a:ext cx="23400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400" spc="-1" strike="noStrike">
                  <a:solidFill>
                    <a:srgbClr val="000000"/>
                  </a:solidFill>
                  <a:latin typeface="Calibri"/>
                </a:rPr>
                <a:t>Teacher 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7"/>
            <p:cNvSpPr/>
            <p:nvPr/>
          </p:nvSpPr>
          <p:spPr>
            <a:xfrm>
              <a:off x="714240" y="1786320"/>
              <a:ext cx="23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Kath Murdoch and the Inquiry Learning Proces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Strategies &amp; Tool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8"/>
            <p:cNvSpPr/>
            <p:nvPr/>
          </p:nvSpPr>
          <p:spPr>
            <a:xfrm>
              <a:off x="5072040" y="1500480"/>
              <a:ext cx="23400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400" spc="-1" strike="noStrike">
                  <a:solidFill>
                    <a:srgbClr val="000000"/>
                  </a:solidFill>
                  <a:latin typeface="Calibri"/>
                </a:rPr>
                <a:t>Student 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49"/>
            <p:cNvSpPr/>
            <p:nvPr/>
          </p:nvSpPr>
          <p:spPr>
            <a:xfrm>
              <a:off x="5072040" y="1786320"/>
              <a:ext cx="2340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Using the Inquiry Learning Process &amp; strategies to access deep learnin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0"/>
            <p:cNvSpPr/>
            <p:nvPr/>
          </p:nvSpPr>
          <p:spPr>
            <a:xfrm>
              <a:off x="714240" y="2650320"/>
              <a:ext cx="23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Kate Lloyd &amp; Joy Allcock acquiring written language, expect knowledge &amp; skill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1"/>
            <p:cNvSpPr/>
            <p:nvPr/>
          </p:nvSpPr>
          <p:spPr>
            <a:xfrm>
              <a:off x="5072040" y="2650320"/>
              <a:ext cx="23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Generalising gains in spelling skills across to their written work (SAT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52"/>
            <p:cNvSpPr/>
            <p:nvPr/>
          </p:nvSpPr>
          <p:spPr>
            <a:xfrm>
              <a:off x="714240" y="3622320"/>
              <a:ext cx="23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Utilising Web 2.0 tools, skills &amp; strateg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53"/>
            <p:cNvSpPr/>
            <p:nvPr/>
          </p:nvSpPr>
          <p:spPr>
            <a:xfrm>
              <a:off x="5072040" y="3429720"/>
              <a:ext cx="2340000" cy="93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Using ICT tools to enhance learning &amp; produce a learning story to share with parents/caregiver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54"/>
            <p:cNvSpPr/>
            <p:nvPr/>
          </p:nvSpPr>
          <p:spPr>
            <a:xfrm>
              <a:off x="714240" y="4215600"/>
              <a:ext cx="23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Utilising SRL strategies &amp; to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5"/>
            <p:cNvSpPr/>
            <p:nvPr/>
          </p:nvSpPr>
          <p:spPr>
            <a:xfrm>
              <a:off x="5143680" y="4358520"/>
              <a:ext cx="234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Developing as self managing lear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6"/>
            <p:cNvSpPr/>
            <p:nvPr/>
          </p:nvSpPr>
          <p:spPr>
            <a:xfrm>
              <a:off x="3143160" y="207216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7"/>
            <p:cNvSpPr/>
            <p:nvPr/>
          </p:nvSpPr>
          <p:spPr>
            <a:xfrm>
              <a:off x="3143160" y="307224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8"/>
            <p:cNvSpPr/>
            <p:nvPr/>
          </p:nvSpPr>
          <p:spPr>
            <a:xfrm>
              <a:off x="3143160" y="392976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59"/>
            <p:cNvSpPr/>
            <p:nvPr/>
          </p:nvSpPr>
          <p:spPr>
            <a:xfrm>
              <a:off x="3143160" y="457272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0"/>
            <p:cNvSpPr/>
            <p:nvPr/>
          </p:nvSpPr>
          <p:spPr>
            <a:xfrm>
              <a:off x="2190240" y="790560"/>
              <a:ext cx="3456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Calibri"/>
                </a:rPr>
                <a:t>Building the Fu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61"/>
            <p:cNvSpPr/>
            <p:nvPr/>
          </p:nvSpPr>
          <p:spPr>
            <a:xfrm flipH="1">
              <a:off x="2571480" y="1150560"/>
              <a:ext cx="410400" cy="27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2"/>
            <p:cNvSpPr/>
            <p:nvPr/>
          </p:nvSpPr>
          <p:spPr>
            <a:xfrm>
              <a:off x="4782240" y="1150560"/>
              <a:ext cx="361440" cy="27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3"/>
            <p:cNvSpPr/>
            <p:nvPr/>
          </p:nvSpPr>
          <p:spPr>
            <a:xfrm>
              <a:off x="714240" y="4858560"/>
              <a:ext cx="223200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Te Reo &amp; Tikanga knowledge &amp; skill buil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64"/>
            <p:cNvSpPr/>
            <p:nvPr/>
          </p:nvSpPr>
          <p:spPr>
            <a:xfrm>
              <a:off x="5072040" y="4930200"/>
              <a:ext cx="2448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lvl="1"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NZ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Developing fluency in Te Reo &amp; knowledge ofTikan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5"/>
            <p:cNvSpPr/>
            <p:nvPr/>
          </p:nvSpPr>
          <p:spPr>
            <a:xfrm>
              <a:off x="3143160" y="528732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Rectangle 68" descr=""/>
          <p:cNvPicPr/>
          <p:nvPr/>
        </p:nvPicPr>
        <p:blipFill>
          <a:blip r:embed="rId1"/>
          <a:stretch/>
        </p:blipFill>
        <p:spPr>
          <a:xfrm>
            <a:off x="1378080" y="281160"/>
            <a:ext cx="58402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571680" y="1308960"/>
            <a:ext cx="91440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ESOL (2 teachers &amp; 2+ teacher a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eading Recovery/Read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MP (Junior School/small grou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yslexia Cli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eacher Aide Support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individual/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pecialist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Maths Olympiad and Specialist Science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Outside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atering for diverse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grated inquiry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Multiple Intellig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ull-out programmes (creative writing, Robotics, Music, Langu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523800" y="487440"/>
            <a:ext cx="6443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22160" y="2214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nstantia"/>
              </a:rPr>
              <a:t>PMP information afternoon 11       Februar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nstantia"/>
              </a:rPr>
              <a:t>April 30</a:t>
            </a:r>
            <a:r>
              <a:rPr b="0" lang="en-NZ" sz="28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NZ" sz="2800" spc="-1" strike="noStrike">
                <a:solidFill>
                  <a:srgbClr val="ffffff"/>
                </a:solidFill>
                <a:latin typeface="Constantia"/>
              </a:rPr>
              <a:t> Mark Treadwell (PM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nstantia"/>
              </a:rPr>
              <a:t>Date to be confirmed Term 1– Joy Allcock (PM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nstantia"/>
              </a:rPr>
              <a:t>End of Inquiry Journey WOW! Open Lunch Hou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nstantia"/>
              </a:rPr>
              <a:t>Information evenings (once a term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Rectangle 4" descr=""/>
          <p:cNvPicPr/>
          <p:nvPr/>
        </p:nvPicPr>
        <p:blipFill>
          <a:blip r:embed="rId1"/>
          <a:stretch/>
        </p:blipFill>
        <p:spPr>
          <a:xfrm>
            <a:off x="347760" y="682560"/>
            <a:ext cx="8199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Documents and Settings\Educator\Desktop\tabloids 011.jpg"/>
          <p:cNvPicPr/>
          <p:nvPr/>
        </p:nvPicPr>
        <p:blipFill>
          <a:blip r:embed="rId1"/>
          <a:stretch/>
        </p:blipFill>
        <p:spPr>
          <a:xfrm>
            <a:off x="428760" y="1071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Documents and Settings\Educator\Desktop\DSC07790.JPG"/>
          <p:cNvPicPr/>
          <p:nvPr/>
        </p:nvPicPr>
        <p:blipFill>
          <a:blip r:embed="rId2"/>
          <a:stretch/>
        </p:blipFill>
        <p:spPr>
          <a:xfrm>
            <a:off x="3571920" y="2857680"/>
            <a:ext cx="501948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1:21:43Z</dcterms:created>
  <dc:creator>Ministry of Education</dc:creator>
  <dc:description/>
  <dc:language>en-US</dc:language>
  <cp:lastModifiedBy>Ministry of Education</cp:lastModifiedBy>
  <dcterms:modified xsi:type="dcterms:W3CDTF">2009-02-18T01:38:04Z</dcterms:modified>
  <cp:revision>35</cp:revision>
  <dc:subject/>
  <dc:title>Ilam School  Curriculum Map 2009</dc:title>
</cp:coreProperties>
</file>